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7332C-1608-494C-BECA-6ACDC4335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9A291-B803-4426-ADD3-9F84A76B7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2E449-8856-4A04-AE30-6D853205C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BB466-A965-4C12-9966-42E33B8ED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2B1440-7AB9-4F48-B59D-A3A0E42D92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A7F03-45DB-4B95-81EE-8965E7DE0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CDF5C2-B816-4664-BB32-571C3B829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3EA30-5D9A-4A1D-B085-07A5D17B2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EB86F-C6A9-4576-A269-EB527302F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73155-78E4-48F7-B0B8-3CC0CC057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4C03E-B901-4002-B2E1-1D83F49A5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0026A-C5D8-435E-9271-CF5205551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1FECE-8C9E-45C1-88B5-0F96671F9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E5659-66B7-46D9-AA27-11FCB9CDA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06C22-3C91-4738-81CA-3459B7664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28D744-6FDC-42D4-958F-48553E1C6A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9D45CB-B430-4406-9B7D-54CB747992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182100-43F0-4175-AD23-BF5B9BFD9B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8BAAC0-9D93-478E-823B-76E493A9C5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EE17AF-B496-4DA2-8482-B0CD436E8C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C71815-DBB9-4B56-A1C9-5133B1B7DC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AB826A-ADA3-47F6-BC49-BE8A316D1E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BFFB4-7790-429C-8F36-7294BD85D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12B9A2-0933-479C-9F16-960D465CE9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12DC71-C3A9-45E5-8A75-8D7CCBB58D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35398B-F155-4C3D-ACE0-AB319CA99B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3B22B9-6196-4564-985E-DE89FF42E8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03C1C1-4AF6-4C6A-B9DB-960EBBE1AF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F2A639-944F-4D5A-A47D-4219F12C70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D097DA-EF07-4906-8560-44224E718E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6776A4-5697-4DBD-8B9C-2F5F4E4085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7BFF67-06B0-4B48-8A8F-456F65C17F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27E092-D4D4-4B24-8133-45D9FDF3C4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14411-9EB9-493B-B0D3-577CA749C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AE5D0B-2F2E-452D-9185-94D2836141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66CA2D-7E97-4215-8A19-9DD87C3598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30A434-7807-4155-BEA5-94E644BE3E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F5B194-95D3-488C-B3DC-2844936FCE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5B207B-1C40-445E-BAE9-FAD2468F45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28BEEB-7A3D-4B05-8F3A-98CE6F484D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F9AFD7-3BE8-456A-821F-F11EE3600B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454FEF-01B7-41B1-B0F3-4529C884E1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EF23CC-9E01-4E33-AD69-04760EFF8B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F1EFC-9FD9-4038-93BE-08643820F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F2427-20BF-4C9E-83D8-FFCDEC12D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035DE-84BE-4E62-8AE5-9C95FED3E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93FA4-F895-4564-9419-3D3E15C9F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3215C-43F4-400D-AD1E-76D6F5EA0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22C8-255F-45FB-9879-839575BD3F0E}" type="datetime">
              <a:rPr b="0" lang="en-US" sz="1200" spc="-1" strike="noStrike">
                <a:solidFill>
                  <a:srgbClr val="045c75"/>
                </a:solidFill>
                <a:latin typeface="Arial"/>
              </a:rPr>
              <a:t>07/30/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60A57-1B77-45D3-A30A-B02EBE42232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679BB-46DB-4E97-8C7F-708BC9D0A30C}" type="datetime">
              <a:rPr b="0" lang="en-US" sz="1200" spc="-1" strike="noStrike">
                <a:solidFill>
                  <a:srgbClr val="d1eaee"/>
                </a:solidFill>
                <a:latin typeface="Arial"/>
              </a:rPr>
              <a:t>07/30/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8E06-3F9E-4250-962B-39F804334844}"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20E9D-4C35-4E7D-A0A6-441BE57F48A3}" type="datetime">
              <a:rPr b="0" lang="en-US" sz="1200" spc="-1" strike="noStrike">
                <a:solidFill>
                  <a:srgbClr val="d1eaee"/>
                </a:solidFill>
                <a:latin typeface="Arial"/>
              </a:rPr>
              <a:t>07/30/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E577-60FD-41FE-BB75-C430264DE165}"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3E219-8D3B-4D13-8E9D-EF416FA88ADA}" type="datetime">
              <a:rPr b="0" lang="en-US" sz="1200" spc="-1" strike="noStrike">
                <a:solidFill>
                  <a:srgbClr val="045c75"/>
                </a:solidFill>
                <a:latin typeface="Arial"/>
              </a:rPr>
              <a:t>07/30/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A6443-214F-40E2-A088-389C80EF419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80AFB-C8DE-439E-95D4-136DEA22081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2A739-E0A6-4B28-8E1E-6D09FA8E4CB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C129C-7786-4AB3-AE29-30AF19C0B18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9AF0-88D0-4A33-9C00-434DC07328A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9A09-D102-490B-AD9C-36571DE40EB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72B4-99E1-45D1-83EC-C95401B4C2F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8766E-12FF-4FAD-B5B4-6577DA7F84E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C01AE-EA5D-4DE8-BD5A-D04488F6B51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CA0F-5E9A-4A54-A562-49ED3029BAE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5EDB6-3949-4F66-AE59-71C73319A71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825C-EA94-42CB-9EEF-6E5CF0B5DAA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86F27-7189-45CC-A697-5ECD1A00EDD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EE180-BF72-4EFF-80DB-08E9A8192C5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